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A345-97DA-4B56-86D3-959AD01CB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7E0F-4A9E-4794-B007-D0D04F2DB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5A3-C1CB-40F9-ACCE-7E6B05422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3E5-E852-4FAE-8277-2254251E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961-C6B3-4D34-A437-FE77055D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9C9-EDD3-4342-B40E-0B722891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1DA-14A4-4741-9B08-0F102A39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D3A-BCC1-41FC-91EB-4DE20024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23AE-0718-4A6D-8683-E8ADE6C5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CD02-ADE1-47DE-9ABD-697B47FDB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184-9ED5-4942-8A8D-3F88BC9C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FCAD-DEDB-45C3-8446-14829D08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45F-0EAB-4DE8-84EC-86434207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1E4-89E6-4096-8453-B3DFD844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9877-73BF-4EF9-B131-670FB9F5B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ent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attends one day per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ely 15 hours /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 GIEP requirements for go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meet with similarly identified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display time management, communication and personal responsibility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interact with a professional &amp; experience the occupational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a “log”, complete evaluation es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area of interest (see 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for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udent/parent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time of year including su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 of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8-2009 Job shad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sthesiology, Chiropractic, Culinary Arts, Dance, Dentistry, Elementary Education, Meteorology, Music Education, Pharmacy, Photography, Veterin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letic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ing, mathematical applications and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 (MS by inv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 club, afterschool meetings, outside of school compet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 announcement, fall 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United 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and represent a country in a role play debate of contemporary world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and guided research, written position papers, public speaking/debate, “diplomac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s (fall) &amp; MUN Conference (spring) held at Bloomsburg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announcements, late fall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ve problem solving com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K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ember team, student developed           skit performance &amp; spont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ng-term problem)               - (short term prob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 held in early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team by Nov./D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pplication, problem solving, and interpersonal skills within the context of building and programming “robo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o MindStorms® and Lego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Education &amp; Talent Development at B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Bruce Guenther, grades 10-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Todd Gunther, grade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m 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9 – 6400 x31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bgue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tgu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ww.bhsgifted.wikispace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Honors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, History, World Language, Math,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Study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or and teacher supported research in area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fills grad. project requirement for 2010 and 2011 only.  2012 &amp; 2013 have new requir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1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quest and written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GIEP or early 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Research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entor and teacher supported, independent research within the medical fiel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cl. Veter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ptions for 1.01 or 1.06 al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ience teacher recommend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r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summer start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ru Septemb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fall 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vance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s and the opportunity for college cr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 (11 &amp; 12), Am. History, Sciences, L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, required to complete AP Exam (M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al Enrol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in college course taken during the HS day – on campus, on-line, distanc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college credits, discounted tu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HS credit, weighted by1.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1:30:46Z</dcterms:created>
  <dc:creator>Christine Guenther</dc:creator>
  <dc:description/>
  <dc:language>en-US</dc:language>
  <cp:lastModifiedBy>bguenther</cp:lastModifiedBy>
  <dcterms:modified xsi:type="dcterms:W3CDTF">2009-12-04T20:14:00Z</dcterms:modified>
  <cp:revision>39</cp:revision>
  <dc:subject/>
  <dc:title>Berwick Area High School</dc:title>
</cp:coreProperties>
</file>